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011-FB63-411A-A016-4638C966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5A8-D5BD-4C45-9E62-5EDD783F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3BE-F69F-4DE0-B36A-3DC26979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723-EBF6-444D-9DE8-51605601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E4E-D541-4433-B65C-CA7968E1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67F-4F3A-4E0D-8C62-7FED7E26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8CFC-D108-4543-8B10-7BE59723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920-7E05-4D75-A301-1A4914E1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132-F3B3-4AB8-B4A7-96800F2C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7E6-5C81-4F68-8DD6-3393A660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543-56F9-455B-AB8E-05F7337B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899-240F-4D71-B5E4-EF45CFF5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8076-28B4-494F-B425-3F3B8B1B9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400" spc="-1" strike="noStrike">
                <a:solidFill>
                  <a:srgbClr val="cc0000"/>
                </a:solidFill>
                <a:latin typeface="Arial"/>
              </a:rPr>
              <a:t>La culture des méristèm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- Définition d’un méristè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2- Principe de la culture des méristè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3- Technique de la culture des méristè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4-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5- Avantages et limi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60958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in, il faudra une étape complémentaire pour enraciner les futures plantes avant qu'elles soient acclimatées en serre pour finalem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rvir de pied mère pour le prélèvement de boutures sa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préalablement il faudra vérifier que les plantes obtenues sont bien indemnes de virus, en leur faisant subir un test immunolog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immunosorbent assay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uvant l'absence totale de particules vira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- Appli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multipliant le méristème prélevé au sommet d'une plante ou dans le bourgeon axillaire, le plus souvent indemne de maladies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pourra très rapidement obtenir de nombreuses plantes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outes semblabl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u point de vue génétique e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ébarrassées de malad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ont elles étaient affectées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68580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 donc possible de  reconstituer des clones  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ndemnes de maladies à partir de pieds </a:t>
            </a:r>
            <a:r>
              <a:rPr b="1" lang="ar-SA" sz="44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ères malades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l existe plus de 50 espèces végétales qui ont été ainsi assainies c'est le cas de la pomme de terre , la canne à sucre , de dahlia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514600"/>
            <a:ext cx="8686800" cy="12952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  et limi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ulture de méristèmes permet le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auvetage des variétés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enacées d</a:t>
            </a:r>
            <a:r>
              <a:rPr b="1" lang="fr-FR" sz="40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disparitio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 très virosé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e concerne essentiellement l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lantes à reproduction par voie végétativ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turage, marcottage, etc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ette voie favorise la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ransmission des virus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à la descendance</a:t>
            </a:r>
            <a:r>
              <a:rPr b="1" lang="ar-SA" sz="4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s 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largoniu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dahlia, le chrysanthème, la pomme de terre, l'artichaut, le fraisier, framboisier, etc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943600" y="4038480"/>
            <a:ext cx="3200400" cy="2295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048120" y="1600200"/>
            <a:ext cx="2819160" cy="2457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281916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0" y="4191120"/>
            <a:ext cx="3038400" cy="2133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larg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63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rysanth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248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2895480" cy="2666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00400" y="66294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0958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rysantemum macrucap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960" y="1143000"/>
            <a:ext cx="8915400" cy="4983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lantes produites sont saines</a:t>
            </a:r>
            <a:r>
              <a:rPr b="0" lang="ar-SA" sz="4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s virus, champignons et bactéries et répondent aux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es phytosanitair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'échanges internationaux de plus en plus draconienn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181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plantes assainies ont u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gueur accru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 des qualités de floraison et de fructification restauré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obtient d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iétés conformes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à la variété d'origi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 que l'on peu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ier en grande quantit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production est homogèn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nta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’un méristème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méristèmes sont des tissus en expansion continue conférant à la plante une organogenèse permanente chez les végétaux ligneux 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s représentent de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etits massifs de cellules indifférenci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m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conservent la capacité de se diviser activemen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 zones méristèmatiques gardent jusqu'à leur mort le caractère juvéni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s jouent un rôle capital dans le développement végétal puisqu'elle édifient tous les orga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imi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aea6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lantes obtenues sont indemnes de virus mai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 sont pas devenues résistantes aux viru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s peuvent être recontaminées via des insectes si des mesures de pro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axie ne sont pas prises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a culture des méristè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194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LIMASSE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CORNUET notent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'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bsence de virus dans les méristè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tabacs viros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2266920" cy="335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72200" y="3276720"/>
            <a:ext cx="2438280" cy="32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124080" y="3276720"/>
            <a:ext cx="2724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763120" cy="6553080"/>
          </a:xfrm>
          <a:prstGeom prst="rect">
            <a:avLst/>
          </a:prstGeom>
          <a:solidFill>
            <a:srgbClr val="eaea6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tant à profit ces travaux, G. MOREL et C. MARTIN à l'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N.R.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Versailles,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égénèrent des plantes entières sain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dahlia, variété "le Rêve" indemnes de virus à partir de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ulture de méristè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plants infectés par trois virus différ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335268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5105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a même manière ils sauveront la variété de pomme de terre "la Belle de Fontenay" en 19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echnique de la culture des méristè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95288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ulture de méristèmes se dérou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énéralemen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a manière suivant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boutures contenant u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ourgeon végétat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nt prélevées sur les variétés à assain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 explants so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érilisé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i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isséqué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érilement,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s hotte à flux lamin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us une loupe binoculaire, afin d'extraire le méristème de l'apex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ôme apical sans feuil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qui mesure moins de 0,4 mm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eaea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Ce méristème est rapidement déposé dans un tube de culture contenant un gel nutritif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Progressivement, les cellules vont se diviser, des feuilles vont se former, au bout d'un mois cette pousse devra être repiquée sur un nouveau milieu pour parfaire sa croissan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is un mois plus tard il faudra multiplier ou cloner les pousses afin d'obtenir le nombre voulu de plantes sain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LA COMPUTERS</cp:lastModifiedBy>
  <dcterms:modified xsi:type="dcterms:W3CDTF">2001-12-31T23:15:3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